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41.png" ContentType="image/png"/>
  <Override PartName="/ppt/media/image13.jpeg" ContentType="image/jpeg"/>
  <Override PartName="/ppt/media/image23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5.jpeg" ContentType="image/jpeg"/>
  <Override PartName="/ppt/media/image32.png" ContentType="image/png"/>
  <Override PartName="/ppt/media/image1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B25C-D5F9-4D5F-B087-0BCAFC305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C2FD-1DAA-4E2D-889E-36A1969C9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DF34-0B8F-4055-8AF6-8CAF7C7CD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9B53-F280-43B7-B0B5-872BB94B5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E5F3-3B2E-46E7-A091-54292C3AE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2768-0989-4569-A0B0-DC02E1AA3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DA24-9C3B-4D5F-9064-E17696819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8AD3-F765-4629-878D-E1778D952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6F96-BC92-4D78-B961-28F45AB8C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A0B8-F860-473D-B331-EE991EDDD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D097-9A9C-42FE-BC64-EB02A4EAF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18BD-3B4D-490D-9F05-6226EE287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F00E-D423-484C-9773-F67827AFD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96DA-8ACD-4527-8B4E-5D31DCB05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EFB6-AB97-4332-AEB4-7154C87EE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0A845-712B-4926-ACCE-2B0BD6B15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FCF9D-C948-4ADD-8C65-B9F39CF15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68F4E-71E2-4752-AA96-C9FA5FB1C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1FC1A-0F4F-43A8-B813-D752E8DEC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618F-D21F-4BF9-8BB4-E30CB49F80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3471-42E7-4F50-82DF-A67A725320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671-B258-4E72-9E59-A24B3F1081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D9E6-2016-46C2-B3DD-3F10A44515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8ED-6D31-4A68-85DE-8DDD1F703F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17E-4FBD-47DA-816C-92494240B1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2125-1CC7-419A-9AAD-D22096FFF2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CF962-9E4E-49A9-9B28-C902C2346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CF50-BB65-4778-A783-320DE5A1AC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1A29-6714-4CDF-880B-8A9E0EA3CD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8E39-6F14-48BD-A2F1-0485DF59ED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58A3-CCAD-41EA-AA5B-1C54AE8560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493B-FD05-4245-98B1-F4681A8FBE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363B8-B8E3-4F96-AC3A-0B22364E4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22DDC-F819-4181-9598-1D4607919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80FCA-1C64-479B-A564-89F98B326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D636D-650D-4265-8DCB-79080A60D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3C8DE-B9DA-4BB5-82EF-A77C1AB3B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F1820-0233-4446-B331-15EE19420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57EF0-3BCC-490D-804A-9E3EB7C4F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15F2-A0A3-44FE-BECD-82856AAAC4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F91A-DA4F-4F77-88A4-9EF769FCA2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CD74-BAF1-497D-9941-EDAF64BFFB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3200400" y="22096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Processus d’améli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E2BC-04BF-4611-8A93-18B852B734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1219320"/>
            <a:ext cx="2286000" cy="7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2209680" y="2057400"/>
            <a:ext cx="4876920" cy="3206880"/>
            <a:chOff x="2209680" y="2057400"/>
            <a:chExt cx="4876920" cy="3206880"/>
          </a:xfrm>
        </p:grpSpPr>
        <p:sp>
          <p:nvSpPr>
            <p:cNvPr id="193" name="AutoShape 18"/>
            <p:cNvSpPr/>
            <p:nvPr/>
          </p:nvSpPr>
          <p:spPr>
            <a:xfrm>
              <a:off x="2209680" y="2057400"/>
              <a:ext cx="48769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6518"/>
            <p:cNvSpPr/>
            <p:nvPr/>
          </p:nvSpPr>
          <p:spPr>
            <a:xfrm>
              <a:off x="3865320" y="2508840"/>
              <a:ext cx="1566360" cy="1566360"/>
            </a:xfrm>
            <a:prstGeom prst="pi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6524"/>
            <p:cNvSpPr/>
            <p:nvPr/>
          </p:nvSpPr>
          <p:spPr>
            <a:xfrm rot="5400000">
              <a:off x="4233960" y="2877840"/>
              <a:ext cx="1566360" cy="1566360"/>
            </a:xfrm>
            <a:prstGeom prst="pi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6519"/>
            <p:cNvSpPr/>
            <p:nvPr/>
          </p:nvSpPr>
          <p:spPr>
            <a:xfrm rot="10800000">
              <a:off x="3864960" y="3246120"/>
              <a:ext cx="1566360" cy="156636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6521"/>
            <p:cNvSpPr/>
            <p:nvPr/>
          </p:nvSpPr>
          <p:spPr>
            <a:xfrm rot="16200000">
              <a:off x="3496680" y="2877480"/>
              <a:ext cx="1566360" cy="1566360"/>
            </a:xfrm>
            <a:prstGeom prst="pie">
              <a:avLst/>
            </a:pr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6516"/>
            <p:cNvSpPr/>
            <p:nvPr/>
          </p:nvSpPr>
          <p:spPr>
            <a:xfrm>
              <a:off x="5065920" y="26528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6517"/>
            <p:cNvSpPr/>
            <p:nvPr/>
          </p:nvSpPr>
          <p:spPr>
            <a:xfrm>
              <a:off x="3642480" y="40795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6520"/>
            <p:cNvSpPr/>
            <p:nvPr/>
          </p:nvSpPr>
          <p:spPr>
            <a:xfrm>
              <a:off x="3640320" y="26546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6523"/>
            <p:cNvSpPr/>
            <p:nvPr/>
          </p:nvSpPr>
          <p:spPr>
            <a:xfrm>
              <a:off x="5066640" y="40777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9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Nouvelles tendances – outil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219320" y="342900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timisation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espa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d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mp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l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’activ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ans le but d’améliorer les circuits du flux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9399-3F3F-46A4-AFE7-202652EB91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Flux de travail et maintenance par les techniciens d’hém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ff"/>
                </a:solidFill>
                <a:latin typeface="Verdana"/>
              </a:rPr>
              <a:t>Pre Lean                               Post 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6AA6-518A-4451-8944-38890AEB76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Nouvelles tendances – outils  d’améli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éthodologie planifiant un projet en vue de mettre en œuvre des changements et des améliorations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six-sigma"/>
          <p:cNvPicPr/>
          <p:nvPr/>
        </p:nvPicPr>
        <p:blipFill>
          <a:blip r:embed="rId1"/>
          <a:stretch/>
        </p:blipFill>
        <p:spPr>
          <a:xfrm>
            <a:off x="3886200" y="4649760"/>
            <a:ext cx="23050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6A9C-426E-4E55-BB41-948C7A5C3E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Six Sigma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essus organisés pour aider à la prise de décision pour l’amélior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fin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aly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méli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666880"/>
            <a:ext cx="3570120" cy="3581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 rot="16863600">
            <a:off x="2857320" y="3085560"/>
            <a:ext cx="4343400" cy="213336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360"/>
              <a:gd name="textAreaBottom" fmla="*/ 18475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9845-18D7-433E-8B8C-6A5A9225E8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Qu’est ce que la qualité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76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« la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formité aux exigenc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non pas ce qui est bon ou beau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2004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590920" y="3657600"/>
            <a:ext cx="62481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 Absolutes of Quality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5ED5-D652-4AD9-B3B1-0E5A5C352D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Arial"/>
              </a:rPr>
              <a:t>éfinition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s indicateurs de qualit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Les mesures établies utilisées pour déterminer à quel point une organisation répond aux besoins et aux attentes opérationnelles et 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9001:2000 (5.4.1; 8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15189:2007 (4.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0E43-A621-4F4F-A27D-EB9CD8CAE3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Don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es indicateurs de qu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nt une information sur la performance des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nt la qualité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tent en avant les points qui peuvent être pré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nt les domaines dans lesquels une investigation supplémentaire 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nt les changements dans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6D2D-9394-414D-9C30-483505F269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urer la perform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ins d’indicateurs, c’est mieux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lier les indicateurs aux facteurs nécessaires pour réuss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sures basées sur les besoins des clients et des différentes parties pre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niveaux du laboratoire sont concernés - commencer par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r en fonction des évolutions de stratégie et de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oir des cibles et objectifs établis sur la base de recherches plutôt que sur une estimation arbitraire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7334-7C4F-4FE0-9A55-A29FF57F1A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j0427771"/>
          <p:cNvPicPr/>
          <p:nvPr/>
        </p:nvPicPr>
        <p:blipFill>
          <a:blip r:embed="rId1"/>
          <a:stretch/>
        </p:blipFill>
        <p:spPr>
          <a:xfrm>
            <a:off x="5497560" y="1676520"/>
            <a:ext cx="357012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Huit étapes pour développer de bon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4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v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hod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’accept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erpré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e l’indic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e sor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1CE7-54E2-48C6-9347-F4475AADFD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SECRET d’une équipe d’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ngagez les personnes qui font le travail car elles savent ce qu’elles fo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198108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F0B8-A4EB-4C8E-8892-3753871173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, les participants seront en mesu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historique des processu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importance des processus d’amélioration dans le maintien de la qua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quer la nécessité d’avoir des outils pour contrôler les processus de laboratoire afin de pouvoir identifier les problèmes et les résou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5981-E9BC-41DA-801E-1733C7016D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ractéris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3" descr="Untitled-27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827D-6B18-4810-93FC-2EBA01D8FD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gar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Beaucoup d’organisations passent des milliers d’heures à collecter et interpréter des données. Cependant, beaucoup de ces heures ne sont rien de plus qu’une perte de temps car elles analysent de mauvaises mesures, conduisant à prendre des décisions erronées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876920"/>
            <a:ext cx="7620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Using the Right Metrics to Drive World Class Performance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E26D-ED27-4305-993F-2E0176AB70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ndicateurs dénués de s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j0290897[1]"/>
          <p:cNvPicPr/>
          <p:nvPr/>
        </p:nvPicPr>
        <p:blipFill>
          <a:blip r:embed="rId1"/>
          <a:stretch/>
        </p:blipFill>
        <p:spPr>
          <a:xfrm rot="20365800">
            <a:off x="685440" y="2209320"/>
            <a:ext cx="396252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4"/>
          <p:cNvGrpSpPr/>
          <p:nvPr/>
        </p:nvGrpSpPr>
        <p:grpSpPr>
          <a:xfrm>
            <a:off x="2665800" y="1447920"/>
            <a:ext cx="5682960" cy="1156320"/>
            <a:chOff x="2665800" y="1447920"/>
            <a:chExt cx="5682960" cy="1156320"/>
          </a:xfrm>
        </p:grpSpPr>
        <p:sp>
          <p:nvSpPr>
            <p:cNvPr id="263" name="Text Box 5"/>
            <p:cNvSpPr/>
            <p:nvPr/>
          </p:nvSpPr>
          <p:spPr>
            <a:xfrm>
              <a:off x="2665800" y="1447920"/>
              <a:ext cx="46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culture urine] * [glucose] * [INR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2819520" y="205740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2743200" y="2133720"/>
              <a:ext cx="44197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NUPA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hr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 * [Téléphone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minute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7377120" y="17431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imes New Roman"/>
                </a:rPr>
                <a:t>X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"/>
          <p:cNvSpPr/>
          <p:nvPr/>
        </p:nvSpPr>
        <p:spPr>
          <a:xfrm>
            <a:off x="4952880" y="335268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Lucida Calligraphy"/>
              </a:rPr>
              <a:t>Ce n’est pas parce qu’un ordinateur peut calculer une valeur qu’il devrait le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4486-55CB-4086-9262-1F86E8EFFA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’indicateurs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933480"/>
          <a:ext cx="8153640" cy="5481720"/>
        </p:xfrm>
        <a:graphic>
          <a:graphicData uri="http://schemas.openxmlformats.org/drawingml/2006/table">
            <a:tbl>
              <a:tblPr/>
              <a:tblGrid>
                <a:gridCol w="2019600"/>
                <a:gridCol w="1790640"/>
                <a:gridCol w="2466720"/>
                <a:gridCol w="1876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è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é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Analys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t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Demande d’analyse exacte et approprié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dentification adéquate du pat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xactitude des 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Valeurs critiques rend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mps nécessaire pour premier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Exactitude de l’information sur échantil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orrélation cytologie/biopsie cervic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rôle du diabèt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recherche d’ hyperlipidé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amination hémo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702D-A415-45E1-A1BC-C2E476CD26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762120" y="5791320"/>
            <a:ext cx="7772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ference: Hilborne L. Developing a core set of laboratory based quality indicators. IQLM Conference; 2005 Apr 29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Untitled-26"/>
          <p:cNvPicPr/>
          <p:nvPr/>
        </p:nvPicPr>
        <p:blipFill>
          <a:blip r:embed="rId1"/>
          <a:stretch/>
        </p:blipFill>
        <p:spPr>
          <a:xfrm>
            <a:off x="685800" y="685800"/>
            <a:ext cx="6781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D3DF-4483-438D-A2DC-ADA6FB6E2B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Verdana"/>
              </a:rPr>
              <a:t>Prudenc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quement, le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 de résultat pour le pati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évaluent mieux la qualité, mais son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plus difficiles à mesure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 grand nombre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écessitent des périodes de recueil étend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 Quality Improvement Bad Apples or Bad System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8640-D02B-4804-9926-64AEAB3052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4952880" y="184932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2"/>
          <p:cNvGrpSpPr/>
          <p:nvPr/>
        </p:nvGrpSpPr>
        <p:grpSpPr>
          <a:xfrm>
            <a:off x="4674240" y="1620720"/>
            <a:ext cx="4464720" cy="4572000"/>
            <a:chOff x="4674240" y="1620720"/>
            <a:chExt cx="4464720" cy="4572000"/>
          </a:xfrm>
        </p:grpSpPr>
        <p:sp>
          <p:nvSpPr>
            <p:cNvPr id="286" name="AutoShape 21"/>
            <p:cNvSpPr/>
            <p:nvPr/>
          </p:nvSpPr>
          <p:spPr>
            <a:xfrm>
              <a:off x="4876920" y="162072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39289"/>
            <p:cNvSpPr/>
            <p:nvPr/>
          </p:nvSpPr>
          <p:spPr>
            <a:xfrm>
              <a:off x="5595120" y="1963440"/>
              <a:ext cx="2621520" cy="2954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39290"/>
            <p:cNvSpPr/>
            <p:nvPr/>
          </p:nvSpPr>
          <p:spPr>
            <a:xfrm rot="7200000">
              <a:off x="5787720" y="2828160"/>
              <a:ext cx="2954160" cy="26218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39292"/>
            <p:cNvSpPr/>
            <p:nvPr/>
          </p:nvSpPr>
          <p:spPr>
            <a:xfrm rot="14400000">
              <a:off x="5070240" y="2831040"/>
              <a:ext cx="2954520" cy="2621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39287"/>
            <p:cNvSpPr/>
            <p:nvPr/>
          </p:nvSpPr>
          <p:spPr>
            <a:xfrm>
              <a:off x="762408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39288"/>
            <p:cNvSpPr/>
            <p:nvPr/>
          </p:nvSpPr>
          <p:spPr>
            <a:xfrm>
              <a:off x="6379920" y="493236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39291"/>
            <p:cNvSpPr/>
            <p:nvPr/>
          </p:nvSpPr>
          <p:spPr>
            <a:xfrm>
              <a:off x="513576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0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essentiels pour la 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57200" y="154476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29200" y="2763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mélioration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9"/>
          <p:cNvSpPr/>
          <p:nvPr/>
        </p:nvSpPr>
        <p:spPr>
          <a:xfrm>
            <a:off x="152280" y="1620720"/>
            <a:ext cx="4800600" cy="4496040"/>
          </a:xfrm>
          <a:prstGeom prst="rightArrowCallout">
            <a:avLst>
              <a:gd name="adj1" fmla="val 25002"/>
              <a:gd name="adj2" fmla="val 25000"/>
              <a:gd name="adj3" fmla="val 17796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0" y="1925640"/>
            <a:ext cx="34290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Plan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La direction Participation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BC6D-252F-4539-966B-7BBB325864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tebulb"/>
          <p:cNvSpPr/>
          <p:nvPr/>
        </p:nvSpPr>
        <p:spPr>
          <a:xfrm>
            <a:off x="4952880" y="838080"/>
            <a:ext cx="4038840" cy="5257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0" y="1219320"/>
            <a:ext cx="6629400" cy="59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tudi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uses primair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’err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stion du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éfaillances, défaillances potentielles et approxima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, bénéfices,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 de l’in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248520" y="1066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rreur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181480" y="1905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faillan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3"/>
          <p:cNvSpPr/>
          <p:nvPr/>
        </p:nvSpPr>
        <p:spPr>
          <a:xfrm>
            <a:off x="65530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énéfi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086600" y="2362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iorité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609480" y="2209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A8FF-275A-4A76-9D89-A9826BEBAA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a Direction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bonne direction favorise la culture de l’amélioration 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uvert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s autres ont aussi de bonnes id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gagem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e parvenir à l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pportun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 personnel peut partic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EE90-D735-49BE-9FED-FFE4874FD7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esponsables ne savent pas toujours ce que les employé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v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élioration continue requiert la participation de la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irectio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de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’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11E8-F348-41FF-8538-0AFE7479D8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Scé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ez mis en œuvre au laboratoire un nouveau test pour la détermination des CD4. Votre personnel est formé et utilise aisément ce test. Il a été validé, des résultats ont été rendus et il semble bien fonctio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4038480"/>
            <a:ext cx="83059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ment êtes vous certain que le test fonctionne bien maintenant, et continuera à bien fonctionner dans le futur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E7DD-9468-4D94-A118-D159FEB601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85800" y="14940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jet tous les 6 m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Untitled-24"/>
          <p:cNvPicPr/>
          <p:nvPr/>
        </p:nvPicPr>
        <p:blipFill>
          <a:blip r:embed="rId1"/>
          <a:stretch/>
        </p:blipFill>
        <p:spPr>
          <a:xfrm>
            <a:off x="838080" y="2971800"/>
            <a:ext cx="7363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DAE5-7FDA-43E7-9F61-A7B8256DEE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600200" y="156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tiliser une approche d’équ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mpliquer le personnel techniqu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4990-6A46-4A86-AF3B-EAC919FD37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828800" y="1371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Utiliser des outil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838080" y="2286000"/>
            <a:ext cx="3429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v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0B14-E8F3-4B4B-9CBB-FE639B1705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rcRect l="16994" t="4707" r="0" b="14122"/>
          <a:stretch/>
        </p:blipFill>
        <p:spPr>
          <a:xfrm>
            <a:off x="609480" y="182880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manuals"/>
          <p:cNvPicPr/>
          <p:nvPr/>
        </p:nvPicPr>
        <p:blipFill>
          <a:blip r:embed="rId2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457200" y="914400"/>
            <a:ext cx="8077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riger ou prévenir les pratiques médio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ndre compte des progrè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x responsables et 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2"/>
          <p:cNvSpPr/>
          <p:nvPr/>
        </p:nvSpPr>
        <p:spPr>
          <a:xfrm>
            <a:off x="4038480" y="1905120"/>
            <a:ext cx="2819520" cy="20574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2514600" y="266688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157C-8957-40CD-80E6-0E7948C724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6216_thumb"/>
          <p:cNvPicPr/>
          <p:nvPr/>
        </p:nvPicPr>
        <p:blipFill>
          <a:blip r:embed="rId1"/>
          <a:stretch/>
        </p:blipFill>
        <p:spPr>
          <a:xfrm>
            <a:off x="6858000" y="510552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j0409007"/>
          <p:cNvPicPr/>
          <p:nvPr/>
        </p:nvPicPr>
        <p:blipFill>
          <a:blip r:embed="rId2"/>
          <a:stretch/>
        </p:blipFill>
        <p:spPr>
          <a:xfrm>
            <a:off x="5334120" y="4495680"/>
            <a:ext cx="1322280" cy="1981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’information disponible pour étud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ggestions ou plaintes 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erreurs provenant du programme de gestion des probl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blèmes identifiés lors d’audits in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1"/>
          <p:cNvSpPr txBox="1"/>
          <p:nvPr/>
        </p:nvSpPr>
        <p:spPr>
          <a:xfrm>
            <a:off x="563868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3FB4-6B31-4351-87AC-C0898BE1F7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possible concevez une étude dont les résultats seront statistiquement mesurables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95680" y="1752480"/>
          <a:ext cx="408960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752480"/>
                    <a:ext cx="40896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lean_6_pre"/>
          <p:cNvPicPr/>
          <p:nvPr/>
        </p:nvPicPr>
        <p:blipFill>
          <a:blip r:embed="rId3"/>
          <a:stretch/>
        </p:blipFill>
        <p:spPr>
          <a:xfrm>
            <a:off x="1447920" y="243828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lean_7_post"/>
          <p:cNvPicPr/>
          <p:nvPr/>
        </p:nvPicPr>
        <p:blipFill>
          <a:blip r:embed="rId4"/>
          <a:stretch/>
        </p:blipFill>
        <p:spPr>
          <a:xfrm>
            <a:off x="5029200" y="2468520"/>
            <a:ext cx="2971800" cy="2906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4"/>
          <p:cNvSpPr/>
          <p:nvPr/>
        </p:nvSpPr>
        <p:spPr>
          <a:xfrm>
            <a:off x="7621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e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8769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ost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6B9E-1DEF-4B74-BDD0-E7FDD00D27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j0157047"/>
          <p:cNvPicPr/>
          <p:nvPr/>
        </p:nvPicPr>
        <p:blipFill>
          <a:blip r:embed="rId1"/>
          <a:stretch/>
        </p:blipFill>
        <p:spPr>
          <a:xfrm>
            <a:off x="5334120" y="1447920"/>
            <a:ext cx="2838240" cy="4800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urée des 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32448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Utiliser un indicateur tant qu’il donne une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information util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8840" y="449568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Ne restez pas bloqué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 avec vo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85B6-40D7-4CD6-9363-266ED1A9CA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99072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1981080" y="152388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lani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429000" y="3048120"/>
            <a:ext cx="15238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F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0492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447920" y="4343400"/>
            <a:ext cx="2590560" cy="2209680"/>
          </a:xfrm>
          <a:custGeom>
            <a:avLst/>
            <a:gdLst>
              <a:gd name="textAreaLeft" fmla="*/ 693720 w 2590560"/>
              <a:gd name="textAreaRight" fmla="*/ 1896840 w 2590560"/>
              <a:gd name="textAreaTop" fmla="*/ 591480 h 2209680"/>
              <a:gd name="textAreaBottom" fmla="*/ 16182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haque étape est essentielle pour conserver la qualité du cycl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ead"/>
          <p:cNvPicPr/>
          <p:nvPr/>
        </p:nvPicPr>
        <p:blipFill>
          <a:blip r:embed="rId1"/>
          <a:stretch/>
        </p:blipFill>
        <p:spPr>
          <a:xfrm>
            <a:off x="457200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C696-9463-4456-8A8E-5C8AE7F1CA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mélioration continue est le coeur de la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9113-EAFF-4632-AAB0-A22625B9A1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81120" y="15238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3" descr="bulles_def"/>
          <p:cNvPicPr/>
          <p:nvPr/>
        </p:nvPicPr>
        <p:blipFill>
          <a:blip r:embed="rId1"/>
          <a:stretch/>
        </p:blipFill>
        <p:spPr>
          <a:xfrm>
            <a:off x="2286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DD94-250D-475F-A3C2-394A24213B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7BCC-817C-42F1-95FE-E651DC9936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W. Edwards Deming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14 points pour la qualité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2000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der en permanence à l’esprit l’objectif d’amélior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méliorer toujours et consta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Text Box 7"/>
          <p:cNvSpPr/>
          <p:nvPr/>
        </p:nvSpPr>
        <p:spPr>
          <a:xfrm>
            <a:off x="380880" y="19051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points abordent l’amélioration continu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9A1D-CCB0-4FDB-AF06-3675BE8CED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Cycle de D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5244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52440" y="26989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9" descr="Untitled-22"/>
          <p:cNvPicPr/>
          <p:nvPr/>
        </p:nvPicPr>
        <p:blipFill>
          <a:blip r:embed="rId1"/>
          <a:stretch/>
        </p:blipFill>
        <p:spPr>
          <a:xfrm>
            <a:off x="1295280" y="1217520"/>
            <a:ext cx="5867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82EC-927E-42D3-967B-C9D3039A47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mélioration continue</a:t>
            </a:r>
            <a:br>
              <a:rPr sz="3600"/>
            </a:b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(ISO15189: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velopp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un pla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our un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0" y="1752480"/>
            <a:ext cx="3886200" cy="31244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Identifier l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sourc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d’err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potentiel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ettre e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euv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95880" y="4800600"/>
            <a:ext cx="251460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voir l’efficacit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de l’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juster 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plan d’acti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et modifi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le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rot="20602200">
            <a:off x="2824200" y="1784160"/>
            <a:ext cx="3116160" cy="11430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5116320" y="3429000"/>
            <a:ext cx="2341080" cy="2209680"/>
            <a:chOff x="5116320" y="3429000"/>
            <a:chExt cx="2341080" cy="2209680"/>
          </a:xfrm>
        </p:grpSpPr>
        <p:sp>
          <p:nvSpPr>
            <p:cNvPr id="168" name="AutoShape 11"/>
            <p:cNvSpPr/>
            <p:nvPr/>
          </p:nvSpPr>
          <p:spPr>
            <a:xfrm>
              <a:off x="5181480" y="3429000"/>
              <a:ext cx="221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89455"/>
            <p:cNvSpPr/>
            <p:nvPr/>
          </p:nvSpPr>
          <p:spPr>
            <a:xfrm>
              <a:off x="5572800" y="359460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89456"/>
            <p:cNvSpPr/>
            <p:nvPr/>
          </p:nvSpPr>
          <p:spPr>
            <a:xfrm rot="7200000">
              <a:off x="5767920" y="3931920"/>
              <a:ext cx="1427760" cy="142812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89458"/>
            <p:cNvSpPr/>
            <p:nvPr/>
          </p:nvSpPr>
          <p:spPr>
            <a:xfrm rot="14400000">
              <a:off x="5377320" y="393372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89453"/>
            <p:cNvSpPr/>
            <p:nvPr/>
          </p:nvSpPr>
          <p:spPr>
            <a:xfrm>
              <a:off x="667764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89454"/>
            <p:cNvSpPr/>
            <p:nvPr/>
          </p:nvSpPr>
          <p:spPr>
            <a:xfrm>
              <a:off x="6000120" y="502956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89457"/>
            <p:cNvSpPr/>
            <p:nvPr/>
          </p:nvSpPr>
          <p:spPr>
            <a:xfrm>
              <a:off x="532260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AutoShape 19"/>
          <p:cNvSpPr/>
          <p:nvPr/>
        </p:nvSpPr>
        <p:spPr>
          <a:xfrm flipH="1" rot="16200000">
            <a:off x="7657920" y="3009600"/>
            <a:ext cx="1066680" cy="53352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91AF-D6B1-4D91-B84E-3E80C57DED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utils conventionnels d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s 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valuation extern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 externe et accré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pportunités d’amélio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dicateur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D725-5E26-48DE-A411-DB616CE193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r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4" descr="Untitled-28"/>
          <p:cNvPicPr/>
          <p:nvPr/>
        </p:nvPicPr>
        <p:blipFill>
          <a:blip r:embed="rId1"/>
          <a:stretch/>
        </p:blipFill>
        <p:spPr>
          <a:xfrm>
            <a:off x="609480" y="1422360"/>
            <a:ext cx="73915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11:17Z</dcterms:modified>
  <cp:revision>140</cp:revision>
  <dc:subject/>
  <dc:title>Slide 1</dc:title>
</cp:coreProperties>
</file>